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24A7-C618-4A0B-81C5-55F4AEAE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1AD5-4D68-4F5C-B754-097700A2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DEC-CB43-4832-9B49-903418F5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D317-015F-4CD5-9116-E0B37134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B6C-8417-429E-97F8-99F25D39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F5E-0963-4829-AB8A-7A2955BE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AC9-023E-4A00-BE24-6D5400ED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0A1-6763-40FF-A9BE-B3EF70C6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13A-0654-418C-8FFD-4250F03C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A08-D3E9-4ADB-89D6-FAA57B52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D65-C437-4B75-8597-5D4617C6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4160-72DA-4343-B8E9-6F38E691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FC5B-5EAC-474E-A7CB-85A052B60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crayons.html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sil.si.edu/exhibitions/doodles/innov_binney.htm" TargetMode="External"/><Relationship Id="rId5" Type="http://schemas.openxmlformats.org/officeDocument/2006/relationships/hyperlink" Target="http://www.sil.si.edu/exhibitions/doodles/innov_binney.htm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0"/>
            <a:ext cx="861048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rayola Cray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6095880" y="4876920"/>
            <a:ext cx="3505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yne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7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: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715000"/>
            <a:ext cx="5334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ike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cember 8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4419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Edwin Binney and Harold Sm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Binney &amp; Smith"/>
          <p:cNvPicPr/>
          <p:nvPr/>
        </p:nvPicPr>
        <p:blipFill>
          <a:blip r:embed="rId1"/>
          <a:stretch/>
        </p:blipFill>
        <p:spPr>
          <a:xfrm>
            <a:off x="228600" y="228600"/>
            <a:ext cx="3733920" cy="2057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28195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5146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dwin Binney &amp; Harold Smith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1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crayo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495680" y="1371600"/>
            <a:ext cx="4114800" cy="363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24280" y="487692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5181480"/>
            <a:ext cx="3581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dles, Drafts, and Designs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NOVATORS GALLER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1,2011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il.si.edu/exhibitions/doodles/innov_binne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Unicode MS"/>
              </a:rPr>
              <a:t>Invention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: 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rayol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ray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In 1903 the 8 pack of crayons was inven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nce 1903 when an 8 pack of crayons was invented they have expanded in success in number of w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In 1949 a 48 pack of crayons was inv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In 1958 a 64 pack of crayons with a built in crayon sharpener was inven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1972 florescent colors were added to the box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 1993 the pack of 96 was inv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so in 1993 the color “Flesh” (skin color) was changed to the name “Peach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Inventor: Edwin Binney, Harold Sm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In the late 1800’s the Edwin Binney and Harold Smith founded the Binney &amp; Smith, In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ney &amp; Smith first specialized in industrial colorings including pigments that made country barns red and automobile tires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They also began making slate pencils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02, at St. Louis World Exploration they won a gold medal for the product dustless ch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03, they invented the first box of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yell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gree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8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ck of cray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44Z</dcterms:created>
  <dc:creator>install</dc:creator>
  <dc:description/>
  <dc:language>en-US</dc:language>
  <cp:lastModifiedBy>install</cp:lastModifiedBy>
  <dcterms:modified xsi:type="dcterms:W3CDTF">2011-12-16T15:31:00Z</dcterms:modified>
  <cp:revision>11</cp:revision>
  <dc:subject/>
  <dc:title>Slide 1</dc:title>
</cp:coreProperties>
</file>